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FDE0-E87C-4519-AA04-C3507BD7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AF6B-9E06-4A16-A026-E1810DED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DA57-2092-4CA8-A964-A53DD8DA5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91D0-E624-4177-A88C-9F50D79B6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ACE6-B30D-4325-A6D5-39FF6CFD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5ABA-5D16-4D68-9296-B482550B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AA74-8520-4AFC-B4FB-C9E33E7C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BFFE-6618-4811-B91F-0485A697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2C6B-413D-4A60-9067-E05A4CE9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1815-CE8B-470C-9A20-6258B9A6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C9A1-16F9-47C6-8BBE-A7F4A2BB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8EE1-9BAF-4352-9862-329EA924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C37F-93B4-4623-B1A8-D6E6103B4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 of Great Depress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s of Great De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o Much Cred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Many people bought too much on credit - including stocks. When the stock market crashed (partly due to this credit buying), people were in debt and sold their personal belongings or had their half paid-off possessions reposse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riffs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countries put taxes on goods imported from Canada making our products too expensive to bu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 Production and Expans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Companies expanded their industries but didn't get the demand for goods and services then were forced to fire workers and diminish cos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pendence on the United Stat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Due to the dependency Canada had on the U.S., when an economic depression hit the States, Canada was thrust into one as we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1933 30% of the work force was unempl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ho were less “well off” in the 1920’s faced starvation in some parts of Ca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made do with without luxuries or ext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 Minister R. B. Bennett brought in “make work” projects and other social programs to put people to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ed to the beginning of Canada’s social programs such as Welfare, Employment Insu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he stage for World War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80880" y="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Roaring 20’s” and “The Dirty Thirties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differences between the 1920’s and 1930’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ree examples from the research you did on the 1920’s and compare to the 193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“entertainment “between the decades.  What were the differences in attitude and the ability to take part in leisure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h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ing conditions – qualit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 words  paragraphs and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23:16:25Z</dcterms:created>
  <dc:creator>NBDOE</dc:creator>
  <dc:description/>
  <dc:language>en-US</dc:language>
  <cp:lastModifiedBy>DT06</cp:lastModifiedBy>
  <dcterms:modified xsi:type="dcterms:W3CDTF">2010-02-17T16:19:35Z</dcterms:modified>
  <cp:revision>11</cp:revision>
  <dc:subject/>
  <dc:title>Causes of Depression</dc:title>
</cp:coreProperties>
</file>